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4400" y="531720"/>
            <a:ext cx="35514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3E281D8-97D8-4626-BB15-575CE44206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34476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nter the pipeline later if we have a clean point set, or points with oriented normals, or points with unoriented norma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CEA5-F06A-4791-97BC-BA7E195B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9443-6A5B-4D39-A130-D93D211A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3BA-954E-4BE5-BA91-E266A275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1B5D-78FE-4E6B-8B55-34B063BF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799-D528-451A-87D9-C9EAAE4D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2FB6-910B-421B-ABF3-161B3605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6E5-47C1-4515-AD3D-BA760957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802-DE10-4121-8DC2-16F01D02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3FA-86EF-4B23-A681-5B4DAF7D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99C-B90F-449C-9AEB-05CA369F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9D33-9486-40AD-98CB-4E9F5DCC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534-89C5-442E-A7D2-D2D35E64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FF9F-EE82-4821-B23C-92D5473C4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png"/><Relationship Id="rId3" Type="http://schemas.openxmlformats.org/officeDocument/2006/relationships/image" Target="../media/image31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91240" y="1955880"/>
            <a:ext cx="4038480" cy="381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24321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30960" y="1600200"/>
            <a:ext cx="247320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8920" y="3938760"/>
            <a:ext cx="24336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429160" y="3938760"/>
            <a:ext cx="247644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55920" y="248904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5920" y="484200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4495680" cy="436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191120" y="1422360"/>
            <a:ext cx="449568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71960" y="592128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point set simplified to 1K then re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50K points sampled on Neptune tr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points sampled on a sphere with flipped 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3840" y="1925640"/>
            <a:ext cx="3832200" cy="3549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95840" y="1957320"/>
            <a:ext cx="3832200" cy="34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70520" y="3803760"/>
            <a:ext cx="906120" cy="450720"/>
          </a:xfrm>
          <a:prstGeom prst="rightArrow">
            <a:avLst>
              <a:gd name="adj1" fmla="val 46481"/>
              <a:gd name="adj2" fmla="val 108440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4038480" cy="393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925640"/>
            <a:ext cx="4038480" cy="3875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5200" y="5807160"/>
            <a:ext cx="39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4K points sampled on a mechanical piece with sharp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22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 duration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5600" y="1052640"/>
            <a:ext cx="7886520" cy="5502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85840" y="1539720"/>
            <a:ext cx="1820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91960" y="2278080"/>
          <a:ext cx="865368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2278080"/>
                    <a:ext cx="865368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Surface meshing duration and error wrt approximation distanc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rcRect l="18091" t="0" r="15193" b="0"/>
          <a:stretch/>
        </p:blipFill>
        <p:spPr>
          <a:xfrm>
            <a:off x="2209680" y="2711520"/>
            <a:ext cx="1352520" cy="1969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767040" y="2711520"/>
            <a:ext cx="1265400" cy="1973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237280" y="2709720"/>
            <a:ext cx="13618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98640" y="2155680"/>
          <a:ext cx="7140600" cy="43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2155680"/>
                    <a:ext cx="714060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Memory wrt #input point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2216160" y="2155680"/>
            <a:ext cx="14954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Reconstruction error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76360" y="2149560"/>
          <a:ext cx="8075520" cy="418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149560"/>
                    <a:ext cx="807552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6437160" y="2714760"/>
            <a:ext cx="1495440" cy="227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292640" y="2798640"/>
            <a:ext cx="1401840" cy="2100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049480" y="2778120"/>
            <a:ext cx="1500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0440" y="1868400"/>
            <a:ext cx="4038480" cy="3837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S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face_reconstruction_points_ 3 Pipelin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1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1212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12120" y="37004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 mesh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53160" y="370044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ebraic point set 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7856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3752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1760" y="1486080"/>
            <a:ext cx="319248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s with 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55598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14268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84764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51360" y="5767560"/>
            <a:ext cx="148464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icit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10320" y="5767560"/>
            <a:ext cx="149256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rfac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angle me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1080" y="2948040"/>
            <a:ext cx="1888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44600" y="2948040"/>
            <a:ext cx="1582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035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652920"/>
            <a:ext cx="1889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03560" y="368784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43160" y="3687840"/>
            <a:ext cx="1744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lier rem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7000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2752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8120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0720" y="1487520"/>
            <a:ext cx="1757160" cy="3826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640" y="2255040"/>
            <a:ext cx="761760" cy="379440"/>
          </a:xfrm>
          <a:prstGeom prst="rightArrow">
            <a:avLst>
              <a:gd name="adj1" fmla="val 44769"/>
              <a:gd name="adj2" fmla="val 12798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17760"/>
            <a:ext cx="131472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987880"/>
            <a:ext cx="34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grayed out = in other CGAL pack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51120" y="5280120"/>
            <a:ext cx="273204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s with un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 rot="16200000">
            <a:off x="3980520" y="450828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7680"/>
            <a:ext cx="5616720" cy="457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4640" y="2533680"/>
            <a:ext cx="1719360" cy="20034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200" y="580716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child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417680"/>
            <a:ext cx="2676600" cy="3965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86360" y="1098720"/>
            <a:ext cx="4600440" cy="4468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a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4038480" cy="397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901880"/>
            <a:ext cx="4038480" cy="392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5960" y="552600"/>
            <a:ext cx="3369960" cy="3319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49720" y="552600"/>
            <a:ext cx="3417840" cy="3319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55920" y="25272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55920" y="48798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36680" y="3938760"/>
            <a:ext cx="2724120" cy="2614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43640" y="3938760"/>
            <a:ext cx="268596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98280" y="1065240"/>
            <a:ext cx="5213160" cy="513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30760" y="1106640"/>
            <a:ext cx="5213520" cy="5064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70K points with (emphasized) out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540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0240" y="5749920"/>
            <a:ext cx="39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Bimba 120K reconstructed with distance = 0.1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5200" y="573084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Bimba 120K reconstructed with distance = 0.2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7480" y="1677960"/>
            <a:ext cx="4532040" cy="384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30880" y="1677960"/>
            <a:ext cx="4532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200" y="5807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65K points sampled on a hand with no data at the wrist base (Kreon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138400"/>
            <a:ext cx="4038480" cy="344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2138400"/>
            <a:ext cx="4038480" cy="3449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41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8:39Z</dcterms:created>
  <dc:creator>Nader SALMAN</dc:creator>
  <dc:description/>
  <dc:language>en-US</dc:language>
  <cp:lastModifiedBy>Laurent Saboret</cp:lastModifiedBy>
  <dcterms:modified xsi:type="dcterms:W3CDTF">2009-08-24T15:42:02Z</dcterms:modified>
  <cp:revision>587</cp:revision>
  <dc:subject/>
  <dc:title>Slide 1</dc:title>
</cp:coreProperties>
</file>